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511920-D252-47B5-9F34-7C8AC0FD1B7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ou need inventory to run any system – but the key question is “how much do you need to run smoothly” and try to stay close to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9BBBBA-61CF-40CC-BA14-ADD7E6DFEF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mething that the customer is willing to pay for…if they knew you did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f you removed a process step, and it had a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gativ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mpact on what the customer cares about, the step is considered to be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alue-adde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C8B0-E91E-4B60-9E08-62344BA95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91F8-58DF-4A77-B747-CC9EC4625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580E-8CD8-4A7E-8FBB-EFC018651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8EAD-7C22-4C6F-B044-0356AE3CE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8E99-E518-4C34-A251-5AF9FF3DF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A483-C930-450A-9639-0AE9ADD17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05BB-F500-4FB9-A682-377B9C44D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920D-FD51-4C58-84FE-96EA90131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2228-F61B-4DED-95B8-C1C1B01FF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7D33-3E52-4D42-841B-4903FB2D8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F835-DEB2-462C-93D6-32366F5EE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6B2B-3CC3-45F7-8211-1B2791C95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6305-6901-481C-8929-208EDD934FA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59056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680" y="259056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Les huit causes de gaspill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0288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ffffff"/>
                </a:solidFill>
                <a:latin typeface="Arial"/>
              </a:rPr>
              <a:t>Exercice d’APO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ffffff"/>
                </a:solidFill>
                <a:latin typeface="Arial"/>
              </a:rPr>
              <a:t>septembre 2013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305080" cy="1781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Nombre de cas</a:t>
            </a:r>
            <a:br>
              <a:rPr sz="4400"/>
            </a:b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reç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Lorsque le travail s’empile et cesse de circuler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corbeilles d’arrivée pleines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ots de grande tail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Dissimule l’afflux de travail, alors on ne peut pas s’en occup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Déplac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Les employés se déplacent plus qu’il n’est nécessaire pour faire leur travai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a distance parcourue pour remettre le dossier ou les documents est trop grand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a distance parcourue pour utiliser l’équipement est trop grand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774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Traitement excessi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Lorsque les données sont traitées plus qu’il n’est nécessai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Re-saisies de donné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Collecte et saisie de données inuti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72360" y="1268280"/>
            <a:ext cx="2447640" cy="16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Des 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4" descr="questions.jpg"/>
          <p:cNvPicPr/>
          <p:nvPr/>
        </p:nvPicPr>
        <p:blipFill>
          <a:blip r:embed="rId1"/>
          <a:stretch/>
        </p:blipFill>
        <p:spPr>
          <a:xfrm>
            <a:off x="3564000" y="3068640"/>
            <a:ext cx="19238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BAB1-A9F6-4BC7-9252-61DFE025BC3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2060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  <a:ea typeface="Arial"/>
              </a:rPr>
              <a:t>« </a:t>
            </a:r>
            <a:r>
              <a:rPr b="0" lang="fr-C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e qui importe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  <a:ea typeface="Arial"/>
              </a:rPr>
              <a:t> » en bout de lig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  <a:ea typeface="Arial"/>
              </a:rPr>
              <a:t>la raison pour laquelle nous sommes là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EC7C-0D37-476E-9030-B2DBA75A7B6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Qu’est-ce que la </a:t>
            </a:r>
            <a:r>
              <a:rPr b="1" lang="fr-CA" sz="2800" spc="-1" strike="noStrike">
                <a:solidFill>
                  <a:srgbClr val="ff3300"/>
                </a:solidFill>
                <a:latin typeface="Arial"/>
              </a:rPr>
              <a:t>valeur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20000" y="1413000"/>
            <a:ext cx="157140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Gaspilla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Tout ce qui n’ajoute pas de valeur pour le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Tout ce qui interrompt le cheminement du dossier dans le systè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F267-D878-4D32-8BB2-1FE7C8FABEC0}" type="slidenum">
              <a:rPr b="0" lang="fr-CA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052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</a:rPr>
              <a:t>Gaspillage : Perte de temps/d’argent, mais n’ajoute pas de valeur à l’audi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819160"/>
            <a:ext cx="36194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nquements (corr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Sur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t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e pas utiliser les gens au 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mbre de cas reç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Dépla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itement excess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4560" y="2500200"/>
            <a:ext cx="4143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Dossiers incompl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Traitement trop rapide ou trop fréqu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Recherche de choses, approb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Processus décisionnel lim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Trop de transferts de dossiers d’une personne à une au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ots de grande ta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es employés se déplacent t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Re-saisies multiples de do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Manqu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Lorsqu’un travail doit être refait, corrigé, ou qu’il passe à l’étape suivante alors qu’il est incompl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27640" y="1268280"/>
            <a:ext cx="208764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Surp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orsque le dossier est trop traité ou est traité trop souv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Rapports non utilisé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Documents dont l’accord est donné d’off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Renseignements recueillis mais non utilisé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Traitement plus rapide que nécessai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00720" y="1268280"/>
            <a:ext cx="23749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Atten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orsque le cheminement du dossier est arrêté parce que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on cherche des document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on attend de l’information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on attend des approbations, des signature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il y a un temps d’arrêt dans le systèm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il y a des interrup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3640" y="1197000"/>
            <a:ext cx="15908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Ne pas utiliser les gens au maximu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orsque l’on ne maximise pas le potentiel des person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Les décisions sont prises à des niveaux plus élevés qu’il n’est nécessair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Le personnel n’est pas suffisamment form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Priorités changeantes qui empêchent le personnel d’obtenir des résulta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000000"/>
                </a:solidFill>
                <a:latin typeface="Arial"/>
              </a:rPr>
              <a:t>Les tâches ne sont pas réparties de façon équilibrée entre les membres de l’équip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orsque les dossiers et l’inform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parcourent une plus grande distance que nécessai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Arial"/>
              </a:rPr>
              <a:t>Il y a trop de transferts de dossi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Arial"/>
              </a:rPr>
              <a:t>La distance physique parcourue est trop grand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Ralentit le cheminement du dossier et réduit la rétroaction des person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21:37:58Z</dcterms:created>
  <dc:creator>Craig Szelestowski</dc:creator>
  <dc:description/>
  <dc:language>en-US</dc:language>
  <cp:lastModifiedBy>Mark Jarvis</cp:lastModifiedBy>
  <dcterms:modified xsi:type="dcterms:W3CDTF">2013-09-24T12:34:37Z</dcterms:modified>
  <cp:revision>18</cp:revision>
  <dc:subject/>
  <dc:title>The Nine Wastes</dc:title>
</cp:coreProperties>
</file>